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232680"/>
            <a:ext cx="9150480" cy="6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yriad Roman"/>
              </a:rPr>
              <a:t>Addendum to Public Debt Office Computerisation &amp; Negotiated Dealing System (PDO-NDS)</a:t>
            </a: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292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05320" y="228600"/>
          <a:ext cx="18381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28600"/>
                    <a:ext cx="18381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762120"/>
            <a:ext cx="82011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nnouncement messages screen showing different issue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ing Issue details screen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AU" sz="2000" spc="-1" strike="noStrike">
                <a:solidFill>
                  <a:srgbClr val="cc3300"/>
                </a:solidFill>
                <a:latin typeface="Tahoma"/>
              </a:rPr>
              <a:t>Primary Market -&gt; Announcemen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016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48520" y="342900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9884"/>
              <a:gd name="adj5" fmla="val 134375"/>
              <a:gd name="adj6" fmla="val -94791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ght Click here to view different op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90720"/>
            <a:ext cx="45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348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398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5880" y="5334120"/>
            <a:ext cx="1800360" cy="60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here to open the Issue Details Sc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276720"/>
            <a:ext cx="102888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581280"/>
            <a:ext cx="304920" cy="1752840"/>
          </a:xfrm>
          <a:prstGeom prst="downArrow">
            <a:avLst>
              <a:gd name="adj1" fmla="val 50000"/>
              <a:gd name="adj2" fmla="val 1437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320" y="2286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7944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</a:t>
            </a:r>
            <a:r>
              <a:rPr b="0" lang="en-AU" sz="2000" spc="-1" strike="noStrike">
                <a:solidFill>
                  <a:srgbClr val="cc3300"/>
                </a:solidFill>
                <a:latin typeface="Tahoma"/>
              </a:rPr>
              <a:t>Bids for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rice/Yield Based Auction 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90512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 or right click in announcement message for that issue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and select Subscription For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Price/Yield and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-&gt;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Issue Subscription Reques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320" y="2286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1932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</a:t>
            </a:r>
            <a:r>
              <a:rPr b="0" lang="en-AU" sz="2000" spc="-1" strike="noStrike">
                <a:solidFill>
                  <a:srgbClr val="cc3300"/>
                </a:solidFill>
                <a:latin typeface="Tahoma"/>
              </a:rPr>
              <a:t>Underwriting Bids for Price/Yield Based Auctions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905120"/>
            <a:ext cx="76964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underwriting bid screen from issue details screen or right click in issue announcement screen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and select Underwriting For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nderwrit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ssion fee and underwriting amount to b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subm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-&gt;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Underwriting   Request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320" y="304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1430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ids screen showing fields of Bids – Yield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2876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981080"/>
          <a:ext cx="647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647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828800" y="563868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yield to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638680"/>
            <a:ext cx="180000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Face value to  be appl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572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4572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791320"/>
            <a:ext cx="266724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here to open Underwriting Subscription 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5120" y="1600200"/>
          <a:ext cx="5476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47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724280" y="426708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962520"/>
            <a:ext cx="11430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066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Opening Underwriting Bid form through Announcement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 (Contd..)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47920" y="1600200"/>
          <a:ext cx="5476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547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819520" y="4724280"/>
            <a:ext cx="180000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Underwriting Fe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819520"/>
            <a:ext cx="304920" cy="1904760"/>
          </a:xfrm>
          <a:prstGeom prst="downArrow">
            <a:avLst>
              <a:gd name="adj1" fmla="val 50000"/>
              <a:gd name="adj2" fmla="val 15616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472428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Underwriting amou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2819520"/>
            <a:ext cx="304920" cy="1904760"/>
          </a:xfrm>
          <a:prstGeom prst="downArrow">
            <a:avLst>
              <a:gd name="adj1" fmla="val 50000"/>
              <a:gd name="adj2" fmla="val 15616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14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Underwriting Subscription Form Showing Fees and Amoun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04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Underwriting Bid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990720"/>
            <a:ext cx="609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7704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1066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9144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For Approving UW Bids go to Primary Market -&gt; Subscription List -&gt; Pending for Approval -&gt; Right Click on Bid -&gt;  Details -&gt; Underwriting Form Opens -&gt;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3352680"/>
            <a:ext cx="304920" cy="1905120"/>
          </a:xfrm>
          <a:prstGeom prst="downArrow">
            <a:avLst>
              <a:gd name="adj1" fmla="val 50000"/>
              <a:gd name="adj2" fmla="val 15619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25780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here to approve the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971800"/>
            <a:ext cx="11430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3352680"/>
            <a:ext cx="304920" cy="1905120"/>
          </a:xfrm>
          <a:prstGeom prst="downArrow">
            <a:avLst>
              <a:gd name="adj1" fmla="val 50000"/>
              <a:gd name="adj2" fmla="val 15619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525780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lect Underwriting 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10280" cy="4508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loating Rate Bo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549360"/>
            <a:ext cx="691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Tahoma"/>
              </a:rPr>
              <a:t>Spread (Rate above/below Variable Base Rate ) needs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cc3300"/>
                </a:solidFill>
                <a:latin typeface="Tahoma"/>
              </a:rPr>
              <a:t>entered here.  Eg:  0.12 means 0.12% above VBR.  -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cc3300"/>
                </a:solidFill>
                <a:latin typeface="Tahoma"/>
              </a:rPr>
              <a:t>means 0.12% below VB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3933720"/>
            <a:ext cx="863640" cy="3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522936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the Spre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4292640"/>
            <a:ext cx="231480" cy="896760"/>
          </a:xfrm>
          <a:prstGeom prst="downArrow">
            <a:avLst>
              <a:gd name="adj1" fmla="val 50000"/>
              <a:gd name="adj2" fmla="val 9685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0" y="522936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the Face Value to  be appli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3933720"/>
            <a:ext cx="863640" cy="3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4292640"/>
            <a:ext cx="231840" cy="896760"/>
          </a:xfrm>
          <a:prstGeom prst="downArrow">
            <a:avLst>
              <a:gd name="adj1" fmla="val 50000"/>
              <a:gd name="adj2" fmla="val 967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467480" cy="4724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4000" y="152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Multiple Bids Entry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4365720"/>
            <a:ext cx="863640" cy="35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724280"/>
            <a:ext cx="231840" cy="897120"/>
          </a:xfrm>
          <a:prstGeom prst="downArrow">
            <a:avLst>
              <a:gd name="adj1" fmla="val 50000"/>
              <a:gd name="adj2" fmla="val 967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66100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here to open the  Multiple Bid 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hancements in NDS Version 3.0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Auc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Overview of End-to-End Auction Proces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cenarios in G-Sec Auction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ssue Announcement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Placing Bid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Placing Underwriting Bid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Printing List of Bids Place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hecking Issue Result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ommercial Paper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P Operations in ND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934320" cy="4800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2268360" y="3500280"/>
            <a:ext cx="1224000" cy="6494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213000"/>
            <a:ext cx="863640" cy="3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414972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the Price/Yiel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3213000"/>
            <a:ext cx="863640" cy="3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843280" y="3573360"/>
            <a:ext cx="1800000" cy="1440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4941720"/>
            <a:ext cx="1800360" cy="457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 the Face Value to appli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Multiple Bids Entry Form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Go to Report-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Report Screen and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P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he report name and issue id in that and then click gene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Report List screen and find the entry corresponding to the report trigg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report by double clicking on that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rint option in the report to print the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 Sample report of bids 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3824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38240" y="2362320"/>
          <a:ext cx="52675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2362320"/>
                    <a:ext cx="52675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bidding processes is done, IDMD will announce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will be displayed in the “Calls and Messages” window under Issue Announcements &amp; Results n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entry to see the details of the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using menu option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Issu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20" y="38088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219320"/>
            <a:ext cx="82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Go to Primary Market-&gt;Issue results and select either New Loan / Underwriting/Devol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00200" y="1981080"/>
          <a:ext cx="547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547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0"/>
            <a:ext cx="841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Commercial Paper Reporting by IP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838080"/>
            <a:ext cx="8534160" cy="573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I will create issuer details in NDS as and when a new issuer i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ed by NSDL. It will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be sen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ll IPAs in 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PAs will create the CP details in NDS after the completion of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ranche. It will be sent to the control users within RBI for internal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local end query operations will be provided to view the data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rs details and CP details. IPA will view its own CP data whe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BI control users can view all CP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DL will provide the existing data on Issuers to RBI. All existing Iss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will be migrated in NDS and will be provided to IPAs along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lease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95280" y="127008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NS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79396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286000"/>
            <a:ext cx="1828800" cy="193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 Host Server at PS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160020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PA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222264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PA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287028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PA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485136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PA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0560" y="3348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19051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5960" y="3049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Issuer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94040" y="1073160"/>
            <a:ext cx="45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2080" y="4807080"/>
            <a:ext cx="23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3581280"/>
            <a:ext cx="220968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Create/Modify/Authorize Issuer Details in  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038480"/>
            <a:ext cx="1828800" cy="64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Issuer Details Broadcasted to IPAs in  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3000" y="1905120"/>
            <a:ext cx="23418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Provide Issuer Details to R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5445000"/>
            <a:ext cx="754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A: Scheduled Banks who are NDS members and assigned the role of IP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95280" y="288288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2286000"/>
            <a:ext cx="1828800" cy="193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 Host Server at PS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284796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M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68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61800" y="30492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CP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1073160"/>
            <a:ext cx="45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32080" y="4807080"/>
            <a:ext cx="23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1981080"/>
            <a:ext cx="2210040" cy="45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Create/Modify/Authorize CP Details in  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1676520"/>
            <a:ext cx="1371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Mumbai P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251400" y="205560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148280"/>
            <a:ext cx="1371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D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3048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3352680"/>
            <a:ext cx="1981440" cy="64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ahoma"/>
              </a:rPr>
              <a:t>CP Details Broadcasted to Control Users in  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5445000"/>
            <a:ext cx="754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A: Scheduled Banks who are NDS members and assigned the role of IP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83280" cy="5248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117760" y="5257800"/>
            <a:ext cx="28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parate tab for Commercial Paper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886200" y="47242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45320" y="30492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CP Details 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45320" y="30492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CP Details 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17760" y="5257800"/>
            <a:ext cx="287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parate tab for Commercial Paper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886200" y="47242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98364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Enhancements in NDS Version 3.0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d-to-end Auction Process of CG-Sec Auc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Floating Rate Bonds Instruments in Auc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upport for Market Stabilization Scheme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apital Index Bonds Instruments in Auc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mmercial Paper – Reporting by IPA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evised Report Architectur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WAN Enablem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69000" y="15228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CP Details 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4296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Screen9" descr=""/>
          <p:cNvPicPr/>
          <p:nvPr/>
        </p:nvPicPr>
        <p:blipFill>
          <a:blip r:embed="rId1"/>
          <a:stretch/>
        </p:blipFill>
        <p:spPr>
          <a:xfrm>
            <a:off x="1542960" y="623880"/>
            <a:ext cx="6058080" cy="561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CP Details – Steps and Status Transition in NDS </a:t>
            </a:r>
            <a:endParaRPr b="0" lang="en-US" sz="28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3429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44560" y="1755720"/>
            <a:ext cx="2163240" cy="1046160"/>
            <a:chOff x="844560" y="1755720"/>
            <a:chExt cx="2163240" cy="1046160"/>
          </a:xfrm>
        </p:grpSpPr>
        <p:sp>
          <p:nvSpPr>
            <p:cNvPr id="304" name=""/>
            <p:cNvSpPr/>
            <p:nvPr/>
          </p:nvSpPr>
          <p:spPr>
            <a:xfrm>
              <a:off x="844560" y="1755720"/>
              <a:ext cx="2163240" cy="1046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844560" y="1755720"/>
              <a:ext cx="2162880" cy="1046160"/>
              <a:chOff x="844560" y="1755720"/>
              <a:chExt cx="2162880" cy="1046160"/>
            </a:xfrm>
          </p:grpSpPr>
          <p:sp>
            <p:nvSpPr>
              <p:cNvPr id="306" name=""/>
              <p:cNvSpPr/>
              <p:nvPr/>
            </p:nvSpPr>
            <p:spPr>
              <a:xfrm>
                <a:off x="939960" y="1755720"/>
                <a:ext cx="1972080" cy="10461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Myriad Roman"/>
                    <a:ea typeface="Times New Roman"/>
                  </a:rPr>
                  <a:t>St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4560" y="1755720"/>
                <a:ext cx="2162880" cy="104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3008160" y="1755720"/>
            <a:ext cx="1118880" cy="1046160"/>
            <a:chOff x="3008160" y="1755720"/>
            <a:chExt cx="1118880" cy="1046160"/>
          </a:xfrm>
        </p:grpSpPr>
        <p:sp>
          <p:nvSpPr>
            <p:cNvPr id="309" name=""/>
            <p:cNvSpPr/>
            <p:nvPr/>
          </p:nvSpPr>
          <p:spPr>
            <a:xfrm>
              <a:off x="3008160" y="1755720"/>
              <a:ext cx="1118880" cy="1046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008160" y="1755720"/>
              <a:ext cx="1118520" cy="1046160"/>
              <a:chOff x="3008160" y="1755720"/>
              <a:chExt cx="1118520" cy="104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103560" y="1755720"/>
                <a:ext cx="928080" cy="10461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Myriad Roman"/>
                    <a:ea typeface="Times New Roman"/>
                  </a:rPr>
                  <a:t>Done B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8160" y="1755720"/>
                <a:ext cx="1118520" cy="104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4127400" y="1755720"/>
            <a:ext cx="2242800" cy="1046160"/>
            <a:chOff x="4127400" y="1755720"/>
            <a:chExt cx="2242800" cy="1046160"/>
          </a:xfrm>
        </p:grpSpPr>
        <p:sp>
          <p:nvSpPr>
            <p:cNvPr id="314" name=""/>
            <p:cNvSpPr/>
            <p:nvPr/>
          </p:nvSpPr>
          <p:spPr>
            <a:xfrm>
              <a:off x="4127400" y="1755720"/>
              <a:ext cx="2242800" cy="1046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127400" y="1755720"/>
              <a:ext cx="2242440" cy="1046160"/>
              <a:chOff x="4127400" y="1755720"/>
              <a:chExt cx="2242440" cy="1046160"/>
            </a:xfrm>
          </p:grpSpPr>
          <p:sp>
            <p:nvSpPr>
              <p:cNvPr id="316" name=""/>
              <p:cNvSpPr/>
              <p:nvPr/>
            </p:nvSpPr>
            <p:spPr>
              <a:xfrm>
                <a:off x="4222800" y="1755720"/>
                <a:ext cx="2051280" cy="10461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Myriad Roman"/>
                    <a:ea typeface="Times New Roman"/>
                  </a:rPr>
                  <a:t>Option / But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7400" y="1755720"/>
                <a:ext cx="2242440" cy="104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6370560" y="1755720"/>
            <a:ext cx="2080800" cy="1046160"/>
            <a:chOff x="6370560" y="1755720"/>
            <a:chExt cx="2080800" cy="1046160"/>
          </a:xfrm>
        </p:grpSpPr>
        <p:sp>
          <p:nvSpPr>
            <p:cNvPr id="319" name=""/>
            <p:cNvSpPr/>
            <p:nvPr/>
          </p:nvSpPr>
          <p:spPr>
            <a:xfrm>
              <a:off x="6370560" y="1755720"/>
              <a:ext cx="2080800" cy="10461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370560" y="1755720"/>
              <a:ext cx="2080440" cy="1046160"/>
              <a:chOff x="6370560" y="1755720"/>
              <a:chExt cx="2080440" cy="10461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65600" y="1755720"/>
                <a:ext cx="1889640" cy="10461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Myriad Roman"/>
                    <a:ea typeface="Times New Roman"/>
                  </a:rPr>
                  <a:t>Status of CP Iss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Myriad Roman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70560" y="1755720"/>
                <a:ext cx="2080440" cy="104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844560" y="2801880"/>
            <a:ext cx="2163240" cy="1046160"/>
            <a:chOff x="844560" y="2801880"/>
            <a:chExt cx="2163240" cy="1046160"/>
          </a:xfrm>
        </p:grpSpPr>
        <p:sp>
          <p:nvSpPr>
            <p:cNvPr id="324" name=""/>
            <p:cNvSpPr/>
            <p:nvPr/>
          </p:nvSpPr>
          <p:spPr>
            <a:xfrm>
              <a:off x="939960" y="2801880"/>
              <a:ext cx="197244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Create 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4560" y="2801880"/>
              <a:ext cx="2163240" cy="1046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008160" y="2801880"/>
            <a:ext cx="1118880" cy="1046160"/>
            <a:chOff x="3008160" y="2801880"/>
            <a:chExt cx="1118880" cy="1046160"/>
          </a:xfrm>
        </p:grpSpPr>
        <p:sp>
          <p:nvSpPr>
            <p:cNvPr id="327" name=""/>
            <p:cNvSpPr/>
            <p:nvPr/>
          </p:nvSpPr>
          <p:spPr>
            <a:xfrm>
              <a:off x="3103560" y="2801880"/>
              <a:ext cx="92844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I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(NDS M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08160" y="2801880"/>
              <a:ext cx="1118880" cy="1046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27400" y="2801880"/>
            <a:ext cx="2242800" cy="1046160"/>
            <a:chOff x="4127400" y="2801880"/>
            <a:chExt cx="2242800" cy="1046160"/>
          </a:xfrm>
        </p:grpSpPr>
        <p:sp>
          <p:nvSpPr>
            <p:cNvPr id="330" name=""/>
            <p:cNvSpPr/>
            <p:nvPr/>
          </p:nvSpPr>
          <p:spPr>
            <a:xfrm>
              <a:off x="4222800" y="2801880"/>
              <a:ext cx="205164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‘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Ok’ in Commercial Paper Tab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Create” in Create Instrument Sc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7400" y="2801880"/>
              <a:ext cx="2242800" cy="1046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70560" y="2801880"/>
            <a:ext cx="2080800" cy="1046160"/>
            <a:chOff x="6370560" y="2801880"/>
            <a:chExt cx="2080800" cy="1046160"/>
          </a:xfrm>
        </p:grpSpPr>
        <p:sp>
          <p:nvSpPr>
            <p:cNvPr id="333" name=""/>
            <p:cNvSpPr/>
            <p:nvPr/>
          </p:nvSpPr>
          <p:spPr>
            <a:xfrm>
              <a:off x="6465600" y="2801880"/>
              <a:ext cx="1890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Captu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0560" y="2801880"/>
              <a:ext cx="2080800" cy="1046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44560" y="3848040"/>
            <a:ext cx="2163240" cy="1333440"/>
            <a:chOff x="844560" y="3848040"/>
            <a:chExt cx="2163240" cy="1333440"/>
          </a:xfrm>
        </p:grpSpPr>
        <p:sp>
          <p:nvSpPr>
            <p:cNvPr id="336" name=""/>
            <p:cNvSpPr/>
            <p:nvPr/>
          </p:nvSpPr>
          <p:spPr>
            <a:xfrm>
              <a:off x="939960" y="3848040"/>
              <a:ext cx="1972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Modify / Authorize CP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4560" y="3848040"/>
              <a:ext cx="2163240" cy="1333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008160" y="3848040"/>
            <a:ext cx="1118880" cy="1333440"/>
            <a:chOff x="3008160" y="3848040"/>
            <a:chExt cx="1118880" cy="1333440"/>
          </a:xfrm>
        </p:grpSpPr>
        <p:sp>
          <p:nvSpPr>
            <p:cNvPr id="339" name=""/>
            <p:cNvSpPr/>
            <p:nvPr/>
          </p:nvSpPr>
          <p:spPr>
            <a:xfrm>
              <a:off x="3103560" y="3848040"/>
              <a:ext cx="928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I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(NDS Member, different us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08160" y="3848040"/>
              <a:ext cx="1118880" cy="1333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127400" y="3848040"/>
            <a:ext cx="2242800" cy="1333440"/>
            <a:chOff x="4127400" y="3848040"/>
            <a:chExt cx="2242800" cy="1333440"/>
          </a:xfrm>
        </p:grpSpPr>
        <p:sp>
          <p:nvSpPr>
            <p:cNvPr id="342" name=""/>
            <p:cNvSpPr/>
            <p:nvPr/>
          </p:nvSpPr>
          <p:spPr>
            <a:xfrm>
              <a:off x="4222800" y="3848040"/>
              <a:ext cx="20516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‘</a:t>
              </a: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Authorize’ in Authorize Instrument Scre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27400" y="3848040"/>
              <a:ext cx="2242800" cy="1333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370560" y="3848040"/>
            <a:ext cx="2080800" cy="1333440"/>
            <a:chOff x="6370560" y="3848040"/>
            <a:chExt cx="2080800" cy="1333440"/>
          </a:xfrm>
        </p:grpSpPr>
        <p:sp>
          <p:nvSpPr>
            <p:cNvPr id="345" name=""/>
            <p:cNvSpPr/>
            <p:nvPr/>
          </p:nvSpPr>
          <p:spPr>
            <a:xfrm>
              <a:off x="6465600" y="3848040"/>
              <a:ext cx="18900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yriad Roman"/>
                  <a:ea typeface="Times New Roman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0560" y="3848040"/>
              <a:ext cx="2080800" cy="1333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838080" y="1752480"/>
            <a:ext cx="7620120" cy="342900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53352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Right click on Inquire / Authorize / Delete menu button to Inquire / Authorize / Delete a CP Issue</a:t>
            </a: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860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Screen6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3480" cy="4449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248520" y="4172040"/>
            <a:ext cx="1828800" cy="988920"/>
          </a:xfrm>
          <a:prstGeom prst="borderCallout2">
            <a:avLst>
              <a:gd name="adj1" fmla="val 18750"/>
              <a:gd name="adj2" fmla="val -8333"/>
              <a:gd name="adj3" fmla="val 11555"/>
              <a:gd name="adj4" fmla="val -45745"/>
              <a:gd name="adj5" fmla="val -67254"/>
              <a:gd name="adj6" fmla="val -77606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ght Click here to Inquire\Authorize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ify\Reject the selected 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169000" y="152280"/>
            <a:ext cx="50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aintain CP Details 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4296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Screen9" descr=""/>
          <p:cNvPicPr/>
          <p:nvPr/>
        </p:nvPicPr>
        <p:blipFill>
          <a:blip r:embed="rId1"/>
          <a:stretch/>
        </p:blipFill>
        <p:spPr>
          <a:xfrm>
            <a:off x="1542960" y="623880"/>
            <a:ext cx="6058080" cy="561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3300"/>
                </a:solidFill>
                <a:latin typeface="Myriad Roman"/>
              </a:rPr>
              <a:t>Mock Production Test Plan</a:t>
            </a:r>
            <a:br>
              <a:rPr sz="4000"/>
            </a:br>
            <a:r>
              <a:rPr b="0" lang="en-AU" sz="4000" spc="-1" strike="noStrike">
                <a:solidFill>
                  <a:srgbClr val="cc3300"/>
                </a:solidFill>
                <a:latin typeface="Myriad Roman"/>
              </a:rPr>
              <a:t>(On Sunday 3</a:t>
            </a:r>
            <a:r>
              <a:rPr b="0" lang="en-AU" sz="4000" spc="-1" strike="noStrike" baseline="30000">
                <a:solidFill>
                  <a:srgbClr val="cc3300"/>
                </a:solidFill>
                <a:latin typeface="Myriad Roman"/>
              </a:rPr>
              <a:t>rd</a:t>
            </a:r>
            <a:r>
              <a:rPr b="0" lang="en-AU" sz="4000" spc="-1" strike="noStrike">
                <a:solidFill>
                  <a:srgbClr val="cc3300"/>
                </a:solidFill>
                <a:latin typeface="Myriad Roman"/>
              </a:rPr>
              <a:t> April 2005)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09480" y="2182680"/>
          <a:ext cx="7467840" cy="3989160"/>
        </p:xfrm>
        <a:graphic>
          <a:graphicData uri="http://schemas.openxmlformats.org/drawingml/2006/table">
            <a:tbl>
              <a:tblPr/>
              <a:tblGrid>
                <a:gridCol w="4648320"/>
                <a:gridCol w="1447920"/>
                <a:gridCol w="137160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From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  </a:t>
                      </a: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To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LAF – Submit &amp; Approve Bi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:3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:3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CG-Sec/FRB – Submit &amp; Approve B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:3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:3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Check Issu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:15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:3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Reverting Back 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:0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:0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Data Migration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Revised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:0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:0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049440" y="1447920"/>
            <a:ext cx="2855520" cy="564480"/>
          </a:xfrm>
          <a:prstGeom prst="rect">
            <a:avLst/>
          </a:prstGeom>
          <a:solidFill>
            <a:srgbClr val="00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Submit minimum 10 b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Between 12:00 PM to 12:30 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705360" y="2019240"/>
            <a:ext cx="990360" cy="1828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720" y="1447920"/>
            <a:ext cx="3088440" cy="564480"/>
          </a:xfrm>
          <a:prstGeom prst="rect">
            <a:avLst/>
          </a:prstGeom>
          <a:solidFill>
            <a:srgbClr val="00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Only after News Broadcast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NDS Helpdesk to do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8840" y="1981080"/>
            <a:ext cx="711360" cy="289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736640" cy="3733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819520" y="5181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QUESTIONS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End-to-End Auction </a:t>
            </a:r>
            <a:r>
              <a:rPr b="0" lang="en-US" sz="2400" spc="-1" strike="noStrike">
                <a:solidFill>
                  <a:srgbClr val="cc3300"/>
                </a:solidFill>
                <a:latin typeface="Myriad Roman"/>
              </a:rPr>
              <a:t>(CG-Sec)</a:t>
            </a:r>
            <a:endParaRPr b="0" lang="en-US" sz="2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762120"/>
            <a:ext cx="853452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 will be created and announced by ID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will be displayed in the “Calls and Messages” window u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 Announcements &amp;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NDS Members can submit &amp; approve Bids (maker/chec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ary Dealers can submit &amp; approve Underwriting Bid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aker/check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ds submitted will be processed at the Host End and the results will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ounced over NDS by ID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NDS Members can check the results for the allot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curities will be credited to the respective SGL Accounts on th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 of payment/sett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57200" y="1828800"/>
          <a:ext cx="815328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5328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80880" y="0"/>
            <a:ext cx="84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cenarios in G-Sec A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666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886200"/>
            <a:ext cx="670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7102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CG Sec Auction can be done with the following parameters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* Price Based / Yield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-635040"/>
            <a:ext cx="6172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334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876920"/>
            <a:ext cx="12952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579132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ield Based / Price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cenarios in G-Sec Auction</a:t>
            </a:r>
            <a:r>
              <a:rPr b="0" lang="en-AU" sz="4000" spc="-1" strike="noStrike">
                <a:solidFill>
                  <a:srgbClr val="cc3300"/>
                </a:solidFill>
                <a:latin typeface="Tahoma"/>
              </a:rPr>
              <a:t> (Contd ..)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5400" y="1066680"/>
            <a:ext cx="6798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CG Sec Auction can be done with the following parameters: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*  Uniform/ Discrimin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828800"/>
          <a:ext cx="815328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5328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495680" y="571500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riminatory/ Uni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0292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572000"/>
            <a:ext cx="12952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9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95280"/>
            <a:ext cx="76964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 will be created and announced by ID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will be displayed in the “Calls and Messages” window under Issue Announcements &amp; Results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issue to see the details of the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Announcement Mess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228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240" y="1066680"/>
            <a:ext cx="51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essage in Calls and Messages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620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54296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4296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000" y="83808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ssue details screen showing issu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638680"/>
            <a:ext cx="1800000" cy="561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here to open the Subscription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67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67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295280"/>
          <a:ext cx="761976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6197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724280" y="4724280"/>
            <a:ext cx="114300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5105520"/>
            <a:ext cx="457200" cy="49536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724280"/>
            <a:ext cx="114300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638680"/>
            <a:ext cx="2057400" cy="561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here to open the Underwriting Subscription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105520"/>
            <a:ext cx="457200" cy="49536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9T06:40:32Z</dcterms:modified>
  <cp:revision>587</cp:revision>
  <dc:subject/>
  <dc:title>Software Project Management</dc:title>
</cp:coreProperties>
</file>